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11.png" ContentType="image/png"/>
  <Override PartName="/ppt/media/image21.wmf" ContentType="image/x-wmf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10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E20F4-E08A-4901-B211-2461F1D5F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7F19D-C9F5-48A1-9B9D-D87FA6B9C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B40E6-E0AD-4C0C-BDA1-7A3F892EE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8E95D-533D-4D99-9FEA-12ACCF81D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E01B9-79BE-4896-9E17-809C013853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83130-CCC9-4260-BF82-8B12F8541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B38CB-C4D6-4D1C-9DEB-B7AB7B71B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55BE4-3776-4D13-92F1-3D1B0E534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B587F-DD81-464F-8833-E56AD5FC81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B1417-199A-4E8A-A8CB-6AEB06601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0F138-5D40-4A19-A021-7297D179B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5629D-1A2E-4C85-B1B2-A56D2265F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da9a9"/>
                </a:solidFill>
                <a:latin typeface="Century Schoolbook"/>
              </a:rPr>
              <a:t>Click to edit the title text format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b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905120" y="76320"/>
            <a:ext cx="5333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5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Research Skills Development Un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215640" y="645120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f5f5f"/>
                </a:solidFill>
                <a:latin typeface="Arial Narrow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A1BC-2ACC-41F2-9129-D0B229EF96D8}" type="slidenum">
              <a:rPr b="0" lang="ar-SA" sz="1400" spc="-1" strike="noStrike">
                <a:solidFill>
                  <a:srgbClr val="5f5f5f"/>
                </a:solidFill>
                <a:latin typeface="Arial Narrow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72480" y="76320"/>
            <a:ext cx="1119240" cy="441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52280" y="112680"/>
            <a:ext cx="533520" cy="42084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a9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4680" y="-4680"/>
            <a:ext cx="9153360" cy="6867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447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f5f5f"/>
                </a:solidFill>
                <a:latin typeface="Century Schoolbook"/>
              </a:rPr>
              <a:t>Click to edit the title text format</a:t>
            </a:r>
            <a:endParaRPr b="0" i="1" lang="en-US" sz="3200" spc="-1" strike="noStrike">
              <a:solidFill>
                <a:srgbClr val="5f5f5f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e.jongsma@sec.gov.qa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a9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565360"/>
            <a:ext cx="6813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  <a:ea typeface="Times New Roman"/>
              </a:rPr>
              <a:t>Developing Student Researchers</a:t>
            </a:r>
            <a:br>
              <a:rPr sz="3200"/>
            </a:b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  <a:ea typeface="Times New Roman"/>
              </a:rPr>
              <a:t>Part 2</a:t>
            </a:r>
            <a:endParaRPr b="0" i="1" lang="en-US" sz="3200" spc="-1" strike="noStrike">
              <a:solidFill>
                <a:srgbClr val="5f5f5f"/>
              </a:solidFill>
              <a:latin typeface="Century Schoolbook"/>
            </a:endParaRPr>
          </a:p>
        </p:txBody>
      </p:sp>
      <p:sp>
        <p:nvSpPr>
          <p:cNvPr id="85" name=""/>
          <p:cNvSpPr/>
          <p:nvPr/>
        </p:nvSpPr>
        <p:spPr>
          <a:xfrm>
            <a:off x="1655640" y="4868280"/>
            <a:ext cx="58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Dr. Gene and Ms. Tarfa Al-Nai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Research Skills Development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Education Instit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3971" t="2891" r="10888" b="15821"/>
          <a:stretch/>
        </p:blipFill>
        <p:spPr>
          <a:xfrm>
            <a:off x="1332000" y="1308240"/>
            <a:ext cx="6408720" cy="5216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753640" y="835200"/>
            <a:ext cx="409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Build a Research Foc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2700360" y="765000"/>
          <a:ext cx="3538440" cy="564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765000"/>
                    <a:ext cx="3538440" cy="564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700360" y="638172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  <a:ea typeface="Arial"/>
              </a:rPr>
              <a:t>Tip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59752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Aft>
                <a:spcPts val="7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  <a:ea typeface="Tahoma"/>
              </a:rPr>
              <a:t>Students cannot ask many questions about a topic they don’t know much about. It is good to make them do a little search about the topic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befor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  <a:ea typeface="Tahoma"/>
              </a:rPr>
              <a:t> coming up with a research ques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77080" y="3933720"/>
            <a:ext cx="17953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Do your students know how to use Google?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74920" y="1951200"/>
            <a:ext cx="6194160" cy="4646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979640" y="1476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ttp://www.googl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Where can I learn more about Google?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9" name=""/>
          <p:cNvSpPr/>
          <p:nvPr/>
        </p:nvSpPr>
        <p:spPr>
          <a:xfrm>
            <a:off x="1979640" y="1476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ttp://www.google.com/educato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26436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Other search engines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62" name=""/>
          <p:cNvSpPr/>
          <p:nvPr/>
        </p:nvSpPr>
        <p:spPr>
          <a:xfrm>
            <a:off x="1979640" y="12668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ttp://www.ask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6960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Other search engines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12668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ttp://www.ask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60360" y="1628640"/>
            <a:ext cx="6840720" cy="5131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364000" y="2997360"/>
            <a:ext cx="2087640" cy="24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Other search engines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69" name=""/>
          <p:cNvSpPr/>
          <p:nvPr/>
        </p:nvSpPr>
        <p:spPr>
          <a:xfrm>
            <a:off x="1979640" y="11239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ttp://www.clusty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7694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Other search engines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72" name=""/>
          <p:cNvSpPr/>
          <p:nvPr/>
        </p:nvSpPr>
        <p:spPr>
          <a:xfrm>
            <a:off x="1979640" y="11239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ttp://www.clusty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7056360" cy="5292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71640" y="2492280"/>
            <a:ext cx="2016000" cy="3241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Let’s Practice:  A Role-playing Activity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76" name=""/>
          <p:cNvSpPr/>
          <p:nvPr/>
        </p:nvSpPr>
        <p:spPr>
          <a:xfrm>
            <a:off x="1979640" y="1566000"/>
            <a:ext cx="1368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566000"/>
            <a:ext cx="1368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a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90920" y="2502720"/>
            <a:ext cx="1368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server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1557360"/>
            <a:ext cx="1079280" cy="360360"/>
          </a:xfrm>
          <a:prstGeom prst="leftRightArrow">
            <a:avLst>
              <a:gd name="adj1" fmla="val 50000"/>
              <a:gd name="adj2" fmla="val 5962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3197520"/>
            <a:ext cx="7488360" cy="3327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udent gives a “big ide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acher tries to guide the student to a research question by asking questions and dialoguing with stu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servers watch and listen without saying any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the teacher feels he/she has narrowed the topic, stop the ac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servers give feedback about what they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peat th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76360" y="3447720"/>
            <a:ext cx="2592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a9a9"/>
                </a:solidFill>
                <a:latin typeface="Century Schoolbook"/>
              </a:rPr>
              <a:t>Enquiry Cycle</a:t>
            </a:r>
            <a:endParaRPr b="0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87" name=""/>
          <p:cNvSpPr/>
          <p:nvPr/>
        </p:nvSpPr>
        <p:spPr>
          <a:xfrm>
            <a:off x="2987640" y="1916280"/>
            <a:ext cx="3168720" cy="1008000"/>
          </a:xfrm>
          <a:custGeom>
            <a:avLst/>
            <a:gdLst>
              <a:gd name="textAreaLeft" fmla="*/ 554400 w 3168720"/>
              <a:gd name="textAreaRight" fmla="*/ 2297520 w 316872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2276640"/>
            <a:ext cx="2016000" cy="43164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35640" y="2997360"/>
            <a:ext cx="863640" cy="1584000"/>
          </a:xfrm>
          <a:custGeom>
            <a:avLst/>
            <a:gdLst>
              <a:gd name="textAreaLeft" fmla="*/ 115560 w 863640"/>
              <a:gd name="textAreaRight" fmla="*/ 748080 w 863640"/>
              <a:gd name="textAreaTop" fmla="*/ 277200 h 1584000"/>
              <a:gd name="textAreaBottom" fmla="*/ 1148400 h 158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348000" y="4725360"/>
            <a:ext cx="2016000" cy="43164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699640" y="2851920"/>
            <a:ext cx="863640" cy="1584360"/>
          </a:xfrm>
          <a:custGeom>
            <a:avLst/>
            <a:gdLst>
              <a:gd name="textAreaLeft" fmla="*/ 115560 w 863640"/>
              <a:gd name="textAreaRight" fmla="*/ 748080 w 86364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92360" y="1668600"/>
            <a:ext cx="58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. Getting Ideas and Motivating Stu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43280" y="543708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. Collecting and Analyz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43640" y="3051360"/>
            <a:ext cx="244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Defin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haping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07512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. Report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haring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Get the Right Question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030560" y="1844640"/>
            <a:ext cx="5113440" cy="4408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484360" y="14115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Webbing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2565360"/>
            <a:ext cx="4032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hose a top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rite questions about what you want to know about this top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ontinue developing questions about these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Strategies for Shaping Ideas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0920" y="1536840"/>
            <a:ext cx="380988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7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Arial"/>
              </a:rPr>
              <a:t>Concept Mapp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51280" y="1409760"/>
            <a:ext cx="50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aw diagrams showing how concepts are 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58920" y="2589120"/>
            <a:ext cx="6699240" cy="407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84360" y="1054080"/>
            <a:ext cx="7848360" cy="568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619280" y="643680"/>
            <a:ext cx="60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ww.inspiration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619280" y="643680"/>
            <a:ext cx="60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ww.mind42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898560" y="1052640"/>
            <a:ext cx="7561080" cy="56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Strategies for Shaping Ideas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99640" y="1557000"/>
            <a:ext cx="3095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WO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88000" y="1463040"/>
            <a:ext cx="3529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ze a topic or issue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eng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k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port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re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16000" y="3068640"/>
            <a:ext cx="3529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1136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Strategies for Shaping Ideas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2808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ilter for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51280" y="1534680"/>
            <a:ext cx="48243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udents work in pairs o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ree on the top five most   important words in a topic, theme, webpage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s take turns writing their key words on the board but can only add words that are not already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55640" y="4429080"/>
            <a:ext cx="280836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Research Question Should Be :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Matter to me pers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learly wor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 question that can be answe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lear how it could be investig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6146280"/>
            <a:ext cx="820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e handout: “Six Good Questions to Ask About Your Research Questio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400" spc="-1" strike="noStrike">
                <a:solidFill>
                  <a:srgbClr val="0da9a9"/>
                </a:solidFill>
                <a:latin typeface="Century Schoolbook"/>
              </a:rPr>
              <a:t>Research Hypothesises</a:t>
            </a:r>
            <a:r>
              <a:rPr b="0" i="1" lang="en-GB" sz="4400" spc="-1" strike="noStrike">
                <a:solidFill>
                  <a:srgbClr val="0da9a9"/>
                </a:solidFill>
                <a:latin typeface="Century Schoolbook"/>
              </a:rPr>
              <a:t> </a:t>
            </a:r>
            <a:endParaRPr b="0" i="1" lang="en-US" sz="44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05" name=""/>
          <p:cNvSpPr/>
          <p:nvPr/>
        </p:nvSpPr>
        <p:spPr>
          <a:xfrm>
            <a:off x="971640" y="2184120"/>
            <a:ext cx="756108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A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research hypothesi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 is a tentative prediction or explanation of the answer to the research qu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ou now have a research question.  What do you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hink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ill be the answer to this ques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Be Car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ou could be right or wrong.  You are doing research to find the truth, not to prove your predi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a9a9"/>
                </a:solidFill>
                <a:latin typeface="Century Schoolbook"/>
              </a:rPr>
              <a:t>How to Answer a Research Question</a:t>
            </a:r>
            <a:endParaRPr b="0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1882800"/>
            <a:ext cx="6912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What do I need to know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Where can I find inform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800" spc="-1" strike="noStrike">
                <a:solidFill>
                  <a:srgbClr val="0da9a9"/>
                </a:solidFill>
                <a:latin typeface="Times New Roman"/>
              </a:rPr>
              <a:t>Think about what you need to do to answer the research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da9a9"/>
                </a:solidFill>
                <a:latin typeface="Century Schoolbook"/>
              </a:rPr>
              <a:t>Thank you for listening!</a:t>
            </a:r>
            <a:br>
              <a:rPr sz="2800"/>
            </a:br>
            <a:br>
              <a:rPr sz="2800"/>
            </a:br>
            <a:r>
              <a:rPr b="1" i="1" lang="en-GB" sz="2800" spc="-1" strike="noStrike">
                <a:solidFill>
                  <a:srgbClr val="0da9a9"/>
                </a:solidFill>
                <a:latin typeface="Century Schoolbook"/>
              </a:rPr>
              <a:t>If you have questions about research</a:t>
            </a:r>
            <a:br>
              <a:rPr sz="2800"/>
            </a:br>
            <a:r>
              <a:rPr b="1" i="1" lang="en-GB" sz="2800" spc="-1" strike="noStrike">
                <a:solidFill>
                  <a:srgbClr val="0da9a9"/>
                </a:solidFill>
                <a:latin typeface="Century Schoolbook"/>
              </a:rPr>
              <a:t>or need additional information,</a:t>
            </a:r>
            <a:br>
              <a:rPr sz="2800"/>
            </a:br>
            <a:r>
              <a:rPr b="1" i="1" lang="en-GB" sz="2800" spc="-1" strike="noStrike">
                <a:solidFill>
                  <a:srgbClr val="0da9a9"/>
                </a:solidFill>
                <a:latin typeface="Century Schoolbook"/>
              </a:rPr>
              <a:t>feel free to contact us.</a:t>
            </a:r>
            <a:endParaRPr b="0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364464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. G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e.jongsma@sec.gov.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Office Phone:  456-01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Mobile:  681-39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Ta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t.alnuimi@sec.gov.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Office Pone: 456-0l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What Do Your Students Want to Research Exactly?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0920" y="2420640"/>
            <a:ext cx="7993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urpose of this session is to give you strategies for guiding students in choosing what exactly they want to research through asking a number of probing, sharply focused questio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Moving from the “Big Idea” to a Research Question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2735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Research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2924280"/>
            <a:ext cx="3311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Research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4940280"/>
            <a:ext cx="381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Research Hypo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1523880"/>
            <a:ext cx="51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bject or topic of the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29584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lls what you want to find out. States the purpose of the research in a question for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5640" y="493884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a tentative prediction or answer to the research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2205000"/>
            <a:ext cx="358920" cy="647640"/>
          </a:xfrm>
          <a:prstGeom prst="downArrow">
            <a:avLst>
              <a:gd name="adj1" fmla="val 50000"/>
              <a:gd name="adj2" fmla="val 45110"/>
            </a:avLst>
          </a:prstGeom>
          <a:solidFill>
            <a:srgbClr val="3333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76360" y="3573360"/>
            <a:ext cx="358920" cy="1150920"/>
          </a:xfrm>
          <a:prstGeom prst="downArrow">
            <a:avLst>
              <a:gd name="adj1" fmla="val 50000"/>
              <a:gd name="adj2" fmla="val 80165"/>
            </a:avLst>
          </a:prstGeom>
          <a:solidFill>
            <a:srgbClr val="3333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Can you tell the difference?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03640" y="4110120"/>
            <a:ext cx="2260440" cy="1911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826920" y="2852640"/>
            <a:ext cx="2160720" cy="1368360"/>
          </a:xfrm>
          <a:prstGeom prst="wedgeEllipseCallout">
            <a:avLst>
              <a:gd name="adj1" fmla="val -44194"/>
              <a:gd name="adj2" fmla="val 69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arch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48000" y="2205000"/>
            <a:ext cx="2519280" cy="1584360"/>
          </a:xfrm>
          <a:prstGeom prst="cloudCallout">
            <a:avLst>
              <a:gd name="adj1" fmla="val -20069"/>
              <a:gd name="adj2" fmla="val 836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arch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3716280"/>
            <a:ext cx="2448000" cy="1150920"/>
          </a:xfrm>
          <a:prstGeom prst="wedgeRoundRectCallout">
            <a:avLst>
              <a:gd name="adj1" fmla="val -43773"/>
              <a:gd name="adj2" fmla="val 7620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arch Hypo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27640" y="436500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mm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626040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ctivity Sheet #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How to Do That ?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1843920"/>
            <a:ext cx="48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n area or topic in which you have an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55240" y="3140640"/>
            <a:ext cx="5419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 lvl="1" marL="457200">
              <a:lnSpc>
                <a:spcPct val="80000"/>
              </a:lnSpc>
              <a:spcAft>
                <a:spcPts val="374"/>
              </a:spcAft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deas or issues which you wish to explore in detai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5760" y="3067920"/>
            <a:ext cx="42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problems detected and needing a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48480" y="3788640"/>
            <a:ext cx="34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questions arising from 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3640" y="1205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esearch Top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195640" y="2205000"/>
            <a:ext cx="107928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62560" y="2205000"/>
            <a:ext cx="9381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27640" y="213372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71640" y="442908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esearch Ques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27640" y="407664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219640" y="3500280"/>
            <a:ext cx="1224000" cy="13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3573360"/>
            <a:ext cx="1008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5588640"/>
            <a:ext cx="38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ne focused  answerable Qu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5229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600360" y="917640"/>
            <a:ext cx="1068480" cy="1566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854600" y="1700280"/>
            <a:ext cx="1878120" cy="485640"/>
          </a:xfrm>
          <a:prstGeom prst="wedgeRoundRectCallout">
            <a:avLst>
              <a:gd name="adj1" fmla="val -49490"/>
              <a:gd name="adj2" fmla="val 8431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y research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6320" y="520560"/>
            <a:ext cx="15192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y big id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2781360"/>
            <a:ext cx="1330200" cy="49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3699000"/>
            <a:ext cx="1184040" cy="59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ypes of pol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33760" y="3699000"/>
            <a:ext cx="1217880" cy="59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uses of pol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84920" y="3699000"/>
            <a:ext cx="1639800" cy="59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lutions for pol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90800" y="4869000"/>
            <a:ext cx="1614600" cy="59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pollution in Qa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30480" y="5950080"/>
            <a:ext cx="341964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the major sources of air pollution in Doha and what can be done about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23640" y="285192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ollu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76360" y="28141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ig Ide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37152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k questions to narrow the ide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4940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aller ide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60134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earch qu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da9a9"/>
                </a:solidFill>
                <a:latin typeface="Century Schoolbook"/>
              </a:rPr>
              <a:t>Why is a research question important?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69134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research question is important because it helps you determine what type of information or data you need to collect.  It points you in the right dire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research question can also guide you in deciding what research methods to use and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how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o collect your dat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Build A Research Focus:</a:t>
            </a:r>
            <a:br>
              <a:rPr sz="3200"/>
            </a:b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Questions to Ask Students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473200"/>
            <a:ext cx="777240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you really curious abou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do you want to explore this topic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do you know alread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do you need to find out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will you find out the information you ne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will you make sense of the data you discov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will you share your finds with other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20:40:46Z</dcterms:created>
  <dc:creator>Katie Swanson</dc:creator>
  <dc:description/>
  <dc:language>en-US</dc:language>
  <cp:lastModifiedBy>t.alnuimi</cp:lastModifiedBy>
  <cp:lastPrinted>2003-12-19T17:34:29Z</cp:lastPrinted>
  <dcterms:modified xsi:type="dcterms:W3CDTF">2009-01-05T07:54:46Z</dcterms:modified>
  <cp:revision>38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02460821</vt:r8>
  </property>
  <property fmtid="{D5CDD505-2E9C-101B-9397-08002B2CF9AE}" pid="3" name="_AuthorEmail">
    <vt:lpwstr>rsami@sec.gov.qa</vt:lpwstr>
  </property>
  <property fmtid="{D5CDD505-2E9C-101B-9397-08002B2CF9AE}" pid="4" name="_AuthorEmailDisplayName">
    <vt:lpwstr>Rawya Sami</vt:lpwstr>
  </property>
  <property fmtid="{D5CDD505-2E9C-101B-9397-08002B2CF9AE}" pid="5" name="_EmailSubject">
    <vt:lpwstr>Plz repalce the already existing file </vt:lpwstr>
  </property>
  <property fmtid="{D5CDD505-2E9C-101B-9397-08002B2CF9AE}" pid="6" name="_PreviousAdHocReviewCycleID">
    <vt:r8>1902460821</vt:r8>
  </property>
  <property fmtid="{D5CDD505-2E9C-101B-9397-08002B2CF9AE}" pid="7" name="_ReviewingToolsShownOnce">
    <vt:lpwstr/>
  </property>
</Properties>
</file>